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586-D343-413B-B6CA-AE41D16B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45B-51C4-4D1E-B171-A74EC4EF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E1D-8A23-4816-95B9-8661F119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F36-7C14-4D81-90F1-1D0413C4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0BE-C100-4A94-B8D7-6CBC55A1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554-8695-4B1E-A7B6-131A7890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B7E-9A16-48DF-9B54-77526BBF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F57-05A0-4D46-B978-E0ED9669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EB7-D859-4648-875E-687BB7EB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034-BB17-47A3-A723-734A66E5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532-13DC-4BAF-A9C6-D0F1A96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D2A-98BE-497B-A046-8826040B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825C-9C79-4B0D-A649-7A8D92591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2ce4"/>
            </a:gs>
            <a:gs pos="50000">
              <a:srgbClr val="000000"/>
            </a:gs>
            <a:gs pos="100000">
              <a:srgbClr val="9e2c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-1522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Edwardian Script ITC"/>
              </a:rPr>
              <a:t>El Cine de Rache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685800"/>
            <a:ext cx="61722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cc7e8"/>
                </a:solidFill>
                <a:uFillTx/>
                <a:latin typeface="Andalus"/>
              </a:rPr>
              <a:t>La pel</a:t>
            </a:r>
            <a:r>
              <a:rPr b="1" lang="en-US" sz="3200" spc="-1" strike="noStrike" u="sng">
                <a:solidFill>
                  <a:srgbClr val="3cc7e8"/>
                </a:solidFill>
                <a:uFillTx/>
                <a:latin typeface="Andalus"/>
                <a:ea typeface="Arial"/>
              </a:rPr>
              <a:t>ĺ</a:t>
            </a:r>
            <a:r>
              <a:rPr b="1" lang="en-US" sz="3200" spc="-1" strike="noStrike" u="sng">
                <a:solidFill>
                  <a:srgbClr val="3cc7e8"/>
                </a:solidFill>
                <a:uFillTx/>
                <a:latin typeface="Andalus"/>
              </a:rPr>
              <a:t>cula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c7e8"/>
                </a:solidFill>
                <a:latin typeface="Andalus"/>
              </a:rPr>
              <a:t> </a:t>
            </a:r>
            <a:r>
              <a:rPr b="1" lang="en-US" sz="2400" spc="-1" strike="noStrike">
                <a:solidFill>
                  <a:srgbClr val="3cc7e8"/>
                </a:solidFill>
                <a:latin typeface="Andalus"/>
              </a:rPr>
              <a:t>Free Wi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312408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cde74"/>
                </a:solidFill>
                <a:uFillTx/>
                <a:latin typeface="LilyUPC"/>
              </a:rPr>
              <a:t>Sesiones</a:t>
            </a:r>
            <a:r>
              <a:rPr b="1" lang="en-US" sz="1600" spc="-1" strike="noStrike" u="sng">
                <a:solidFill>
                  <a:srgbClr val="1cde74"/>
                </a:solidFill>
                <a:uFillTx/>
                <a:latin typeface="Lily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de74"/>
                </a:solidFill>
                <a:latin typeface="LilyUPC"/>
              </a:rPr>
              <a:t>12/15- 12/17-</a:t>
            </a:r>
            <a:r>
              <a:rPr b="0" lang="en-US" sz="1600" spc="-1" strike="noStrike">
                <a:solidFill>
                  <a:srgbClr val="1cde74"/>
                </a:solidFill>
                <a:latin typeface="LilyUPC"/>
              </a:rPr>
              <a:t> 3:00, 4:30, 5:15, 6:30, 7:00, 7:30, 8:00, 9:3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de74"/>
                </a:solidFill>
                <a:latin typeface="LilyUPC"/>
              </a:rPr>
              <a:t>12/18- 12/20-</a:t>
            </a:r>
            <a:r>
              <a:rPr b="0" lang="en-US" sz="1600" spc="-1" strike="noStrike">
                <a:solidFill>
                  <a:srgbClr val="1cde74"/>
                </a:solidFill>
                <a:latin typeface="LilyUPC"/>
              </a:rPr>
              <a:t> 12:00, 1:30, 3:30, 4:30, 5:45, 6:15, 7:15, 8:45, 9:30, 10: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de74"/>
                </a:solidFill>
                <a:latin typeface="LilyUPC"/>
              </a:rPr>
              <a:t>12/21-12/23-</a:t>
            </a:r>
            <a:r>
              <a:rPr b="0" lang="en-US" sz="1600" spc="-1" strike="noStrike">
                <a:solidFill>
                  <a:srgbClr val="1cde74"/>
                </a:solidFill>
                <a:latin typeface="LilyUPC"/>
              </a:rPr>
              <a:t> 11:30, 12:15, 1:00, 2:30, 3:25, 4:15, 5:00, 6:30, 7: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de74"/>
                </a:solidFill>
                <a:latin typeface="LilyUPC"/>
              </a:rPr>
              <a:t>12/24-12/25-</a:t>
            </a:r>
            <a:r>
              <a:rPr b="0" lang="en-US" sz="1600" spc="-1" strike="noStrike">
                <a:solidFill>
                  <a:srgbClr val="1cde74"/>
                </a:solidFill>
                <a:latin typeface="LilyUPC"/>
              </a:rPr>
              <a:t> 4:45, 6:15, 6:00, 7:30, 8:30, 9:15, 10:00</a:t>
            </a:r>
            <a:r>
              <a:rPr b="0" lang="en-US" sz="1600" spc="-1" strike="noStrike">
                <a:solidFill>
                  <a:srgbClr val="1cde74"/>
                </a:solidFill>
                <a:latin typeface="LilyUP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29000" y="685800"/>
            <a:ext cx="209556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638680" y="99072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c7e8"/>
                </a:solidFill>
                <a:latin typeface="Monotype Corsiva"/>
              </a:rPr>
              <a:t>Diciembre 15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1600200"/>
            <a:ext cx="2362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</a:rPr>
              <a:t>Ni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  <a:ea typeface="Arial"/>
              </a:rPr>
              <a:t>ñ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</a:rPr>
              <a:t>os- 10 d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  <a:ea typeface="Arial"/>
              </a:rPr>
              <a:t>ó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</a:rPr>
              <a:t>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</a:rPr>
              <a:t>Adultos- 15 d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  <a:ea typeface="Arial"/>
              </a:rPr>
              <a:t>ó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</a:rPr>
              <a:t>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65760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on Jason James Richter, Lori Petty, Jayne Atkinson, y August Shellenbur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3657600"/>
            <a:ext cx="2051280" cy="211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72200" y="281952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Elephant"/>
              </a:rPr>
              <a:t>Las comidas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Elephant"/>
              </a:rPr>
              <a:t>Hay palomitas de ma</a:t>
            </a:r>
            <a:r>
              <a:rPr b="0" lang="en-US" sz="1400" spc="-1" strike="noStrike">
                <a:solidFill>
                  <a:srgbClr val="ff0000"/>
                </a:solidFill>
                <a:latin typeface="Elephant"/>
                <a:ea typeface="Arial"/>
              </a:rPr>
              <a:t>í</a:t>
            </a:r>
            <a:r>
              <a:rPr b="0" lang="en-US" sz="1400" spc="-1" strike="noStrike">
                <a:solidFill>
                  <a:srgbClr val="ff0000"/>
                </a:solidFill>
                <a:latin typeface="Elephant"/>
              </a:rPr>
              <a:t>z, soda, y el caramel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876920"/>
            <a:ext cx="5791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envenidos al Cine de Rachel! El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i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s muy pequ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,pero muy fantastico!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La pelicul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s Free Willy. Hay muchos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ession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ara ver la pelicula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La taquill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s donde compra las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ntrada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ntall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 muy grande. Hay vers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s doblada y america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7:04:42Z</dcterms:created>
  <dc:creator>hickeyrac</dc:creator>
  <dc:description/>
  <dc:language>en-US</dc:language>
  <cp:lastModifiedBy>hickeyrac</cp:lastModifiedBy>
  <dcterms:modified xsi:type="dcterms:W3CDTF">2013-01-02T19:11:00Z</dcterms:modified>
  <cp:revision>6</cp:revision>
  <dc:subject/>
  <dc:title>Slide 1</dc:title>
</cp:coreProperties>
</file>